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665-BE63-4971-B2BE-4DE61910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6A6E-6415-4E92-A44D-2165B69C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3A0-4224-411B-86B7-9D261E4E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969-55AD-4589-92E3-CA90F25E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06D-163C-411D-9DF2-D0BE6FEA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441-E771-47F1-8506-C54957D7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81B-D5A1-4770-B88E-6EFA737D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9ED-AB13-47E9-9A12-5CEF7C42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4BC-0D70-47E1-AC12-729F689F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5E1-C780-417B-BAB9-8C218CF1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A0E-1268-4D8B-8F92-9CBB4947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660-B864-4628-832E-601D3F6E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3B97-3D9A-4054-A0EF-44854F6E7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45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iele für he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ish your Powerpoint of weather (pix, day of the week, words, temperatu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your opening sl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esting background (not too busy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letters display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y the name of the reporter (can be a fake German nam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ime, maybe theme music or some other s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your lost animal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cture of animal (maybe name of anim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ct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 SCRIP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3:55:50Z</dcterms:created>
  <dc:creator>ahart</dc:creator>
  <dc:description/>
  <dc:language>en-US</dc:language>
  <cp:lastModifiedBy>Alissa Hart</cp:lastModifiedBy>
  <dcterms:modified xsi:type="dcterms:W3CDTF">2014-10-28T16:02:13Z</dcterms:modified>
  <cp:revision>5</cp:revision>
  <dc:subject/>
  <dc:title>Ziele für heute</dc:title>
</cp:coreProperties>
</file>